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1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E47B-27DD-42A5-B352-A1859446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0AEF-EC51-452B-A7C7-9A70EE82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DCA-DCEF-4B56-BB09-10E4D69B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892-94BD-4788-BFC2-71E31FF0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AE83-5256-4F4A-9372-39BB5E6D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D4DF-C3D9-48A2-AA4D-B13292B5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0BCC-B903-492F-A939-69B139D1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7C6A-F99A-45BD-AAC2-893AAAEE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2B52-9FDF-47A7-855C-7178BBC1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815E-3188-43F2-A6E5-3EDE1B05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D24D-D41A-4BA6-B2BF-D2811B0E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7B6C-85EC-4074-86BD-D04163DF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AA81-CCC7-4C74-8DC2-6D119766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C52C-6531-4295-9C02-1FDC973D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039E-697A-4ABB-B8BA-9C9DB656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328A-1B77-4C76-83BA-B7CBFE2F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A452-0E69-4D86-9778-D0912D6C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626A2-F8EF-432E-A545-66DA5F0C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88679-9D79-4E3D-8BF8-815C133F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2A983-B649-4DA9-9C01-0E7B9864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91DC5-0E4E-4A42-8C48-BD940BFE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41143-F8B0-4532-BCFA-6C04E9D9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67B-3E34-4239-A46D-98F64A6C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257A1-80A3-4F77-8C8D-83967273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5D4C5-AE74-43BE-AA75-5F042334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6EDFF-F03E-4594-8E62-4890C245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CBBBB-1EB5-4FA8-94CB-C7AF6098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F2ACF-A344-4AE8-AEAD-49F30107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43DC6-4108-4C06-BFC5-4E298DBE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534E2-E068-4E51-ABFA-9DE7B5A5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584A4-8064-4E46-9FE6-1B100085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2DD26-10F8-4DEF-A758-E1AA4730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D185F-B8CC-45ED-9815-57A2DBFD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DE1-4DC2-42F6-8F4C-6522DD52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3CA30-032F-4C15-87D3-7F275D2D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7CDA7-357F-46ED-9CA9-46BEBD3A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2F337-138A-421A-B501-1A91B52A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D04AA-27CD-4DB8-9E8F-65D9991F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9D592-5A42-4B00-82DE-CFC0A7CD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D76F5-F8F8-4A2D-821A-8F472A6B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1377C-797A-491E-9B09-3E996359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CF6FA-9EA7-445A-BC8A-DFAE34BD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450A9-A4E3-4DE4-81B5-C95075D9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AD221-98E9-4C8A-A3CE-DDC875B6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D5B9-62C9-4E3C-AF57-D3E13068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63C9D-7C63-41E3-96EE-47851677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0815E-0F99-47E1-ADA9-B8E339B2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77F36-C5C6-4163-AAEF-F3628E0F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A9EED-FC5F-4A1A-B3EF-55BAF6D5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02B74-505E-4889-8FCC-8EEE65B8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3D4BD-25AC-46AD-9DED-5525DFF9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82061-15BE-46BF-8CAA-EC4D791E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24E60-1F0B-4CCD-A28A-69277511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A5334-DAC5-4DAD-A961-21B20E43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3831D-7C58-4976-9577-44D2D796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D215-E5B2-43FE-9A45-77F3F33E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0598C-0E4A-41F8-8F09-22FAFCC8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AD6CC-D60D-4B5F-95FD-E5699E01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E5287-D69C-413A-840A-0E35EF9A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C49F1-8928-496D-A030-0E6E1C62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F2A4E-86A2-495D-9D1A-E1330698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2EE92-6E67-4235-B239-FD5D2296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F7D36-618A-4D73-96AF-5DCC3151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0DFB9-562F-420B-AF50-CA0D320D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CE334-A317-4DAB-BE52-BD7C96D9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51E06-B260-4045-AD57-BBA54D0F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D1C-8D22-4357-BC4E-A9CA545B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D616E-DF29-4D72-B768-F779A1DB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2E31C-7BC3-499C-8569-156B9495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2B68C-13E2-4357-8672-B0BC98AA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3CAA7-697D-4F9C-8AD9-0BF7F81A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ADF90-149A-4449-91BB-6266F8F9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9A97B-93E4-42F8-AD13-D353D4EB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66036-AB8E-4408-A7A5-D0395DD6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4ED58-4DD5-42E3-9350-6BC69488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8D017-A36F-4260-A90F-11E6ED68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DEA35-7BE3-4A83-8EA1-B7943173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70D-493B-48C4-AF05-75CD610F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DBC2F-E373-424B-B46F-4EB793A2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DC285-492C-448C-B9EE-C2D08208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F0CFA-1934-4F3A-8827-C7AD3FFE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EC7A4-BA87-4035-A0A1-26864899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0A167-1B33-4D21-9502-1D358A1D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5B63D-BD06-49E0-B7FF-702094E2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21917-87A4-4699-9CB1-91A7F1B9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CBD9C-337C-4E5E-9963-15FEC12B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E3AC2-FA81-4103-8716-DD341F4B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1BDC4-3465-40EC-8260-C958FC9B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4FD-2249-4229-8CD2-2333BD24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B519D-8AB4-4E5C-BA44-56B95706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51DEB-2067-4680-BB35-C955B555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C3841-B3E9-447A-A50F-7C337A44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D14A0-7CF2-4E93-BABE-7E751D57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E2D77-3460-4847-AEB4-1B32EF0E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D5FC9-3065-4AAB-976B-4543931A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4D758-6E5B-40DF-B44A-999B66B0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78B1-4986-437A-8904-D6F9EEF3CCA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9982-0F82-43C6-A8F6-AEC73422498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C90C-CBF4-46F3-BFC3-E48B7307BE2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178E-54C3-45F2-9A1D-7855A616B4B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E947-831B-4BF7-B2CC-9C7CF887057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4714-E0AC-4F89-B7D8-F4CEAB7B00E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F022-B596-4DCC-94D8-326DA152A41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73B2-C64C-4EB3-8E8F-A80231D7140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GHkHMoyC5I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344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History and Struc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2743200" cy="2422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3"/>
          <a:stretch/>
        </p:blipFill>
        <p:spPr>
          <a:xfrm>
            <a:off x="6781680" y="4114800"/>
            <a:ext cx="1800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838080" y="0"/>
            <a:ext cx="762012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ochemist Erwin Chargaff also noted that the ratios of certain bases was a relative const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noted [A] = [T] and [G] =[C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re on this l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7696080" y="152280"/>
            <a:ext cx="10670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rrangements of covalent bonds was also establish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6858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981080" y="0"/>
            <a:ext cx="4800600" cy="6878520"/>
          </a:xfrm>
          <a:prstGeom prst="rect">
            <a:avLst/>
          </a:prstGeom>
          <a:ln w="0">
            <a:noFill/>
          </a:ln>
        </p:spPr>
      </p:pic>
      <p:sp>
        <p:nvSpPr>
          <p:cNvPr id="396" name="TextBox 4"/>
          <p:cNvSpPr/>
          <p:nvPr/>
        </p:nvSpPr>
        <p:spPr>
          <a:xfrm>
            <a:off x="6248520" y="21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uanine 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5334120" y="685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denine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6"/>
          <p:cNvSpPr/>
          <p:nvPr/>
        </p:nvSpPr>
        <p:spPr>
          <a:xfrm>
            <a:off x="6400800" y="4800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ymin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7"/>
          <p:cNvSpPr/>
          <p:nvPr/>
        </p:nvSpPr>
        <p:spPr>
          <a:xfrm>
            <a:off x="5943600" y="3429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ytosine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ing the x-ray crystallography work from Rosalind Frankl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r work showed that DNA was helic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2743200" y="2819520"/>
            <a:ext cx="381492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ick deduced that the molecule had a set width, and was made up of two stra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ence the term, double helix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was opposed to Linus Pauling’s assertion that it was a triple heli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ter initially placing the sugar-phosphate groups on the inside (incorrectly), Watson placed them on the outside, forcing the nitrogenous bases to swivel to the insi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created the famous spiral ladder model known tod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639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y trial and error, they determined that purines paired with pyrimidines (gave correct wid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was known as base pairing, held together by hydrogen bo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4056120" cy="2971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tretch/>
        </p:blipFill>
        <p:spPr>
          <a:xfrm>
            <a:off x="2438280" y="3200400"/>
            <a:ext cx="4510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explained Chargaff’s observ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533412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d been known in early 1900’s that DNA and protein made up genetic materi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ructure had not been determin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ey to its discovery was studying appropriate organis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 this case, viruses and bacteri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DNA Struc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dical officer studying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treptococcus pneumonia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cused on two strai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e produced smooth colonies and was pathogeni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other produced rough colonies and was iner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the smooth bacteria was killed via heat, they were harml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xed heat-killed smooth with living roug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ice caught pneumoni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us, the pathogenicity was inheri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7620120" y="15228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clared that the harmless has been “transformed” by pathogen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lled phenomena trans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nted to determine molecule responsible for trans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rified proteins, lipids, carbs, and DNA of the heat-killed bacteria to see which work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ly DNA was successfu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nounced DNA was genetic carri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re evidence was required (proteins thought to be more importan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7743960" y="0"/>
            <a:ext cx="11714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a common virus called T2 bacterioph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nown that genetic material was passed from virus to bacter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radiolabe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hosphorus-32 used to mark the DN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ulfur-35 used to mark the protei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adioactivity was detected only when phosphorus-32 was u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lusion: DNA is the genetic materi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1143000" y="743040"/>
            <a:ext cx="68580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ter it was accepted that DNA carried the genetic information, structure became import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s known that DNA consisted of three compon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itrogenous ba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entose sugar called deoxyribo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hosphate group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were four bases identified: adenine (A), thymine (T), cytosine (C) and guanine (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2:13:33Z</dcterms:created>
  <dc:creator>ED18</dc:creator>
  <dc:description/>
  <dc:language>en-US</dc:language>
  <cp:lastModifiedBy>ED18</cp:lastModifiedBy>
  <dcterms:modified xsi:type="dcterms:W3CDTF">2012-02-20T12:22:59Z</dcterms:modified>
  <cp:revision>63</cp:revision>
  <dc:subject/>
  <dc:title>Deoxyribonucleic Acid</dc:title>
</cp:coreProperties>
</file>